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720-D7AF-4CB1-B481-C2BC8F24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585-10DE-4771-BE9B-44DB21A7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875-0959-49AB-9151-8BC746E2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E6F-921B-4BB0-B7C7-4C190254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927-2D0A-4D07-AF89-C3826AFC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A7F-0944-4F6D-B6B1-250E22DE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A80-F1CD-4256-ACB7-8653209F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1B1-309E-4E15-8727-C90D8FBC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E45-39D0-4272-949F-893B3CC8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DA7-E866-4F1D-BD2E-98ACFB0E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10D-63CA-4F83-85FA-D9CD7FBA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0AE-D43F-4612-B9F8-A842CE11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9BD1-CF38-43EB-B1B9-74A00536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882E-6D79-4D9C-9E6A-932228D1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FA84-890D-431D-AA01-7113340B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8DDF-A3C3-49A4-BB93-29D01444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93B8-C474-4AAD-97C5-EA93C656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BBEB-D49E-494F-B719-98AD76E2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C518-A78A-41CE-99FD-7EEBB314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0110-716E-4DA7-BBAD-6A38669B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8427-4F26-472B-B232-B74D0683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FB33-879B-4665-B460-B8AAD1E4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5368-92CA-430E-88F6-5C2C544E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306E-9186-4C2E-A599-4417A456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../../&#30446;&#24405;.ppt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20.xml"/><Relationship Id="rId10" Type="http://schemas.openxmlformats.org/officeDocument/2006/relationships/image" Target="../media/image7.png"/><Relationship Id="rId11" Type="http://schemas.openxmlformats.org/officeDocument/2006/relationships/slide" Target="slide19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0" y="390528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57240" y="429264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5"/>
          <a:stretch/>
        </p:blipFill>
        <p:spPr>
          <a:xfrm>
            <a:off x="927000" y="0"/>
            <a:ext cx="22622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57240" y="469260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7240" y="4299120"/>
            <a:ext cx="573120" cy="2552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57240" y="390528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600" y="1198440"/>
            <a:ext cx="895320" cy="25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9600" y="1697040"/>
            <a:ext cx="895320" cy="25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9600" y="2641680"/>
            <a:ext cx="920880" cy="20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600" y="2158920"/>
            <a:ext cx="878040" cy="24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753000" y="4807080"/>
            <a:ext cx="1576080" cy="393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"/>
          </p:nvPr>
        </p:nvSpPr>
        <p:spPr>
          <a:xfrm>
            <a:off x="456840" y="5202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2"/>
          </p:nvPr>
        </p:nvSpPr>
        <p:spPr>
          <a:xfrm>
            <a:off x="3124080" y="520236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3"/>
          </p:nvPr>
        </p:nvSpPr>
        <p:spPr>
          <a:xfrm>
            <a:off x="6552720" y="5202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FE83-62B6-4F27-8833-63BF6A54C1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240" y="390528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57240" y="429264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27000" y="0"/>
            <a:ext cx="22622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4"/>
          </p:nvPr>
        </p:nvSpPr>
        <p:spPr>
          <a:xfrm>
            <a:off x="456840" y="5202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5"/>
          </p:nvPr>
        </p:nvSpPr>
        <p:spPr>
          <a:xfrm>
            <a:off x="3124080" y="520236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6"/>
          </p:nvPr>
        </p:nvSpPr>
        <p:spPr>
          <a:xfrm>
            <a:off x="6552720" y="5202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F2B1-36E9-4F61-87FC-2E2A4FBF59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57240" y="469260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7240" y="4299120"/>
            <a:ext cx="573120" cy="255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57240" y="390528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9600" y="1198440"/>
            <a:ext cx="895320" cy="255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9600" y="1697040"/>
            <a:ext cx="895320" cy="255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39600" y="2641680"/>
            <a:ext cx="920880" cy="201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39600" y="2158920"/>
            <a:ext cx="878040" cy="24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25440" y="1099080"/>
            <a:ext cx="7421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二十五章　概率初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5.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随机事件与概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5.1.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随机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68480" y="809640"/>
            <a:ext cx="78199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微点拨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机事件也被称为不确定事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对某一个事件作出判断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键是看它在每次试验中的特征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定发生、一定不发生、可能发生可能不发生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种情况必居其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68480" y="809640"/>
            <a:ext cx="781992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方法一点通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事件类型的“两个步骤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该事件发生与否是否确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不确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该事件是随机事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该事件确定发生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看该事件是必然发生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是必然不发生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68480" y="809640"/>
            <a:ext cx="781992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知识点二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随机事件发生的可能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【示范题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2013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福州中考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袋中有红球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个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白球若干个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它们只有颜色上的区别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从袋中随机地取出一个球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如果取到白球的可能性较大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那么袋中白球的个数可能是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A.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个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不足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个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C.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个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D.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个或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个以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68480" y="809640"/>
            <a:ext cx="781992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题探究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袋中随机地取出一个球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颜色上来区分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有几种情况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示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红色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白色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两种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机地取出一个球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取到白球的可能性较大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说明两种球的数量有什么关系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示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球的数量大于红球的数量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027080" y="1477800"/>
            <a:ext cx="7819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尝试解答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白球个数为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到红球的可能性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 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到白球的可能性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  ;∴x&gt;4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为整数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781760" y="1611360"/>
          <a:ext cx="5842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1760" y="1611360"/>
                    <a:ext cx="584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556080" y="2241720"/>
          <a:ext cx="5842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080" y="2241720"/>
                    <a:ext cx="584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068480" y="809640"/>
            <a:ext cx="781992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【想一想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通常用哪些词语来表示随机事件发生的可能性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示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常有五类词语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(1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能性极小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(2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太可能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(3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能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(4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可能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(5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能性极大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92400" y="673200"/>
            <a:ext cx="7435800" cy="37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【备选例题】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2013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宜昌中考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)20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～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2013 NB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整个常规赛季中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科比罚球投篮的命中率大约是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83.3%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下列说法错误的是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科比罚球投篮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次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一定全部命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科比罚球投篮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次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不一定全部命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科比罚球投篮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次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命中的可能性较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科比罚球投篮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次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不命中的可能性较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027080" y="1133640"/>
            <a:ext cx="7819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比罚球投篮的命中率大约是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3.3%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映的是这个事件发生的可能性比较大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不一定是一定会发生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选项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说法是错误的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,C,D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说法都是正确的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8480" y="809640"/>
            <a:ext cx="7819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【方法一点通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随机事件可能性大小比较“三步法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Image0483.jpeg" descr=""/>
          <p:cNvPicPr/>
          <p:nvPr/>
        </p:nvPicPr>
        <p:blipFill>
          <a:blip r:embed="rId1"/>
          <a:stretch/>
        </p:blipFill>
        <p:spPr>
          <a:xfrm>
            <a:off x="2448000" y="2309760"/>
            <a:ext cx="4716360" cy="25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449520" y="2409840"/>
            <a:ext cx="3552840" cy="1484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984400" y="1477800"/>
            <a:ext cx="3886200" cy="9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27080" y="917640"/>
            <a:ext cx="811692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事件的概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确定性事件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确定性事件包括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和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在一定条件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有些事件必然会发生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这样的事件称为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在一定条件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有些事件必然不会发生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这样的事件称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随机事件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在一定条件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_____________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的事件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877160" y="338040"/>
            <a:ext cx="990720" cy="635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984400" y="209520"/>
            <a:ext cx="3886200" cy="914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295880" y="1565640"/>
            <a:ext cx="2787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必然事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83320" y="1565640"/>
            <a:ext cx="3390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不可能事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21400" y="2175120"/>
            <a:ext cx="1590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必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7880" y="2772000"/>
            <a:ext cx="159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事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6920" y="3978720"/>
            <a:ext cx="3390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不可能事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30400" y="4588200"/>
            <a:ext cx="6381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可能发生也可能不发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449520" y="2409840"/>
            <a:ext cx="3552840" cy="1484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rcRect l="0" t="0" r="0" b="77834"/>
          <a:stretch/>
        </p:blipFill>
        <p:spPr>
          <a:xfrm>
            <a:off x="2738520" y="1225440"/>
            <a:ext cx="4376520" cy="9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27080" y="1254240"/>
            <a:ext cx="7819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随机事件发生的可能性大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随机事件发生的可能性是有大小的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同的随机事件发生的可能性有可能不同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27080" y="1035000"/>
            <a:ext cx="781992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【思维诊断】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打“√”或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×”)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1.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杭州的中秋节晚上一定能看到月亮”是必然事件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.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2.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异性电荷互相吸引”是必然事件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.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3.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太阳从西方升起”是确定性事件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.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4.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抛出去的篮球会落地”是必然事件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.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1702080"/>
            <a:ext cx="340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23440" y="2298960"/>
            <a:ext cx="358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23440" y="2908800"/>
            <a:ext cx="358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15760" y="3505680"/>
            <a:ext cx="358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0160" y="1204920"/>
            <a:ext cx="781992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知识点一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事件类型的判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【示范题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1)(2013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衡阳中考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)“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是实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|a|≥0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这一事件是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必然事件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不确定事件　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不可能事件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随机事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978280" y="179280"/>
            <a:ext cx="388620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68480" y="809640"/>
            <a:ext cx="781992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2)(2013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沈阳中考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下列事件中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是不可能事件的是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买一张电影票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座位号是奇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射击运动员射击一次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命中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明天会下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度量三角形的内角和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结果是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360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68480" y="809640"/>
            <a:ext cx="7819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思路点拨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正数、负数、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种情况讨论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确定是否能够得到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|a|≥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先判断该事件发生是否确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是确定不发生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该事件为不可能事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68480" y="809640"/>
            <a:ext cx="781992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自主解答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正数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|a|&gt;0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负数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|a|&gt;0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=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|a|=0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实数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|a|≥0”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事件是必然事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选项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,B,C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是随机事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不确定事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三角形的内角和是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°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可能是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°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度量三角形的内角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是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°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不可能事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68480" y="809640"/>
            <a:ext cx="781992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【想一想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在叙述必然事件、不可能事件和随机事件时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为什么反复提到“在一定条件下”这几个字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示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然事件、不可能事件和随机事件都必须受到一定条件的制约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准大气压下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加热到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℃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沸腾是必然事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在气压高于标准大气压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加热到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℃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沸腾就不是必然事件了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4-10-31T16:35:06Z</dcterms:modified>
  <cp:revision>48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